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E78-DC8A-496F-AB0D-8D043F61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21A-985D-42A1-988C-D1DF0FC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8E5-DF68-4165-8DC0-5779A349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5D1-336E-4A99-A9F6-C65621A2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E5A-8BD2-4906-A50F-6FE15187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04B-9A1D-4A70-A5C3-788A32D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EFA-1EAC-41E1-BF1A-0A768428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7D9-CD6C-4231-8B8D-FB03880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19C-8840-46D0-B28A-CEB6726B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FDD-E39F-4166-A71F-72E59F47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AC3-3FEC-435E-B5FC-344E5307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3C3-ED60-40B8-86B3-1AC5D95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039-5068-4CF9-89C7-CBB5A7B1A9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GENESIS OF FORMS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040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1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egnaposto contenuto 4" descr="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555640" y="1844280"/>
            <a:ext cx="40417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BEGINNING ... EVERYTHING WAS DAR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egnaposto contenuto 5" descr=""/>
          <p:cNvPicPr/>
          <p:nvPr/>
        </p:nvPicPr>
        <p:blipFill>
          <a:blip r:embed="rId2"/>
          <a:stretch/>
        </p:blipFill>
        <p:spPr>
          <a:xfrm>
            <a:off x="4646520" y="263520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ASS OF EARTH SHATTERED AND FORMED PLANET EAR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ALL OF FIRE IS CUT '... AND THERE WAS' THE LIGH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8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4040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RN LIFE ON EARTH: PEOP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 THE MAN THE FORMS ON EART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2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D EVEN THE SKY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TURE!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YTHING HAS A FORM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5" name="Segnaposto contenuto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THE FORM 'S BEAUTIFUL AND WHY THE RAINBOW JOIN PEOPLE OF THE EARTH PEACE IN THE WORL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6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29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NESI DELLE FORM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TRODUZIONE DELLE FIGURE GEOMETRICHE PIANE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ORIA ELABORATA DAI BAMBINI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ENESIS OF THE SHAP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F FIGURES INTRODUCTION GEOMETRIC PLAN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ORY DEVELOPED BY CHILDREN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CUOLA DELL’INFANZIA «L.DA VINCI» TRAPA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ICIL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EZ. A INS. MINAUDO FRANCES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KINDERGARTENS "L.DA VINCI" TRAPANI</a:t>
            </a:r>
            <a:br>
              <a:rPr sz="1700"/>
            </a:b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ICILY</a:t>
            </a:r>
            <a:br>
              <a:rPr sz="1700"/>
            </a:br>
            <a:r>
              <a:rPr b="0" lang="it-IT" sz="1700" spc="-1" strike="noStrike">
                <a:solidFill>
                  <a:srgbClr val="898989"/>
                </a:solidFill>
                <a:latin typeface="Calibri"/>
              </a:rPr>
              <a:t>SEZ. A INS. Minaudo FRANCESC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8:13:37Z</dcterms:created>
  <dc:creator>Francesca</dc:creator>
  <dc:description/>
  <dc:language>en-US</dc:language>
  <cp:lastModifiedBy>.</cp:lastModifiedBy>
  <dcterms:modified xsi:type="dcterms:W3CDTF">2012-04-29T22:25:26Z</dcterms:modified>
  <cp:revision>10</cp:revision>
  <dc:subject/>
  <dc:title>GENESI DELLE FORME</dc:title>
</cp:coreProperties>
</file>